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D80-C504-4B45-999B-CC6F39800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D6D8-A389-4244-BFEB-FBC2D091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1CCE-5413-4D4D-B6F8-26FAAF8E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3E0-0FA2-486E-9901-BDEDB4E2E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1962-AA80-4C1F-8524-000E54F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38E6-4F63-4897-AEF8-7646737B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E58D-D5C1-41EB-9886-E1271E0B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CFE-A37A-4477-BD67-CD8EFAFDE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1C55-C68E-4BBE-A3AC-0AB47F22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683-0E59-4079-BF73-CF066A5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DCF-F8B7-4CF2-B34D-70098FE6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4F21-602B-40D8-A24E-47009AB6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B8DBC-627C-4DD9-AEA6-CD98AD1CD8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DO%2001" descr=""/>
          <p:cNvPicPr/>
          <p:nvPr/>
        </p:nvPicPr>
        <p:blipFill>
          <a:blip r:embed="rId1"/>
          <a:stretch/>
        </p:blipFill>
        <p:spPr>
          <a:xfrm>
            <a:off x="4680" y="290520"/>
            <a:ext cx="913284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ADO%2010" descr=""/>
          <p:cNvPicPr/>
          <p:nvPr/>
        </p:nvPicPr>
        <p:blipFill>
          <a:blip r:embed="rId1"/>
          <a:stretch/>
        </p:blipFill>
        <p:spPr>
          <a:xfrm>
            <a:off x="1461960" y="1285920"/>
            <a:ext cx="62182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ADO%2011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DO%201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DO%201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DO%201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ADO%201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DO%201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ADO%2002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DO%2003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ADO%200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DO%2005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DO%2006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DO%2007" descr=""/>
          <p:cNvPicPr/>
          <p:nvPr/>
        </p:nvPicPr>
        <p:blipFill>
          <a:blip r:embed="rId1"/>
          <a:stretch/>
        </p:blipFill>
        <p:spPr>
          <a:xfrm>
            <a:off x="2475000" y="800280"/>
            <a:ext cx="4194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DO%2008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ADO%2009" descr=""/>
          <p:cNvPicPr/>
          <p:nvPr/>
        </p:nvPicPr>
        <p:blipFill>
          <a:blip r:embed="rId1"/>
          <a:stretch/>
        </p:blipFill>
        <p:spPr>
          <a:xfrm>
            <a:off x="3486240" y="604800"/>
            <a:ext cx="2171520" cy="56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5T20:25:07Z</dcterms:created>
  <dc:creator>Joel Ivey</dc:creator>
  <dc:description/>
  <dc:language>en-US</dc:language>
  <cp:lastModifiedBy>Joel Ivey</cp:lastModifiedBy>
  <dcterms:modified xsi:type="dcterms:W3CDTF">2001-04-05T20:25:25Z</dcterms:modified>
  <cp:revision>1</cp:revision>
  <dc:subject/>
  <dc:title>PowerPoint Presentation</dc:title>
</cp:coreProperties>
</file>